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12801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3F62-E404-46EB-9B1F-DF9EEC222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828072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0240" y="7650720"/>
            <a:ext cx="828072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C45F-05F5-4B05-96D5-7AC8C9B89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60240" y="765072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3200" y="765072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976A-E439-43A6-A20B-24F8E1543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59960" y="340848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0040" y="340848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60240" y="765072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59960" y="765072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0040" y="765072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077A-BEDA-4381-B0B5-A07F9031F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60240" y="3408480"/>
            <a:ext cx="8280720" cy="81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894D-4367-419B-A5EB-2D03CACC5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828072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10FF-CE3F-4B87-9698-5E52ADC57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0865-5254-4F24-B9F5-85C2259F7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D0C5-13D7-49E2-B47F-1ECFD36DD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680760"/>
            <a:ext cx="8280720" cy="1147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E750-4475-4C84-9483-C6EBEC8F3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60240" y="765072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3F75-BE48-4FB5-AB16-B78AA792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3200" y="765072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DC67-4FFD-42CA-A27A-41170A47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60240" y="7650720"/>
            <a:ext cx="828072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2D18-871E-49F7-B124-C4F06EA71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0240" y="3408480"/>
            <a:ext cx="828072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976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120024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679400" indent="-2394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215892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215892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215892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0240" y="11864880"/>
            <a:ext cx="216072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79880" y="11864880"/>
            <a:ext cx="324144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0240" y="11864880"/>
            <a:ext cx="216072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F56B7-2345-4A6D-833A-C20AB504B4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3"/>
          <p:cNvSpPr/>
          <p:nvPr/>
        </p:nvSpPr>
        <p:spPr>
          <a:xfrm>
            <a:off x="0" y="11660040"/>
            <a:ext cx="9601200" cy="11415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-1046160" y="9737640"/>
            <a:ext cx="11684160" cy="2657520"/>
          </a:xfrm>
          <a:prstGeom prst="rect">
            <a:avLst/>
          </a:prstGeom>
          <a:ln w="0">
            <a:noFill/>
          </a:ln>
        </p:spPr>
      </p:pic>
      <p:sp>
        <p:nvSpPr>
          <p:cNvPr id="43" name="TextBox 5"/>
          <p:cNvSpPr/>
          <p:nvPr/>
        </p:nvSpPr>
        <p:spPr>
          <a:xfrm>
            <a:off x="135000" y="2028960"/>
            <a:ext cx="932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3864"/>
                </a:solidFill>
                <a:latin typeface="Calibri"/>
              </a:rPr>
              <a:t>EGE ÜNİVERSİTES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7"/>
          <p:cNvSpPr/>
          <p:nvPr/>
        </p:nvSpPr>
        <p:spPr>
          <a:xfrm>
            <a:off x="135000" y="2612880"/>
            <a:ext cx="932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b0f0"/>
                </a:solidFill>
                <a:latin typeface="Calibri"/>
              </a:rPr>
              <a:t>ANA BAŞLIK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8"/>
          <p:cNvSpPr/>
          <p:nvPr/>
        </p:nvSpPr>
        <p:spPr>
          <a:xfrm>
            <a:off x="932040" y="4067280"/>
            <a:ext cx="773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9"/>
          <p:cNvSpPr/>
          <p:nvPr/>
        </p:nvSpPr>
        <p:spPr>
          <a:xfrm>
            <a:off x="4857840" y="5457960"/>
            <a:ext cx="39481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 but also the leap into electronic typesetting, remaining essentially unchanged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10"/>
          <p:cNvSpPr/>
          <p:nvPr/>
        </p:nvSpPr>
        <p:spPr>
          <a:xfrm>
            <a:off x="932040" y="7818480"/>
            <a:ext cx="39258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 but also the leap into electronic typesetting, remaining essentially unchanged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992160" y="5487840"/>
            <a:ext cx="3767040" cy="1965600"/>
          </a:xfrm>
          <a:prstGeom prst="rect">
            <a:avLst/>
          </a:prstGeom>
          <a:solidFill>
            <a:srgbClr val="e7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4857840" y="7808760"/>
            <a:ext cx="3768480" cy="1962360"/>
          </a:xfrm>
          <a:prstGeom prst="rect">
            <a:avLst/>
          </a:prstGeom>
          <a:solidFill>
            <a:srgbClr val="e7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13"/>
          <p:cNvSpPr/>
          <p:nvPr/>
        </p:nvSpPr>
        <p:spPr>
          <a:xfrm>
            <a:off x="992160" y="11829960"/>
            <a:ext cx="77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İLETİŞİM BİLGİLERİ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4"/>
          <p:cNvSpPr/>
          <p:nvPr/>
        </p:nvSpPr>
        <p:spPr>
          <a:xfrm>
            <a:off x="992160" y="12138120"/>
            <a:ext cx="77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YER: TARİH: SAA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4084560" y="554040"/>
            <a:ext cx="1420920" cy="14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8T07:34:26Z</dcterms:created>
  <dc:creator>Microsoft Office User</dc:creator>
  <dc:description/>
  <dc:language>en-US</dc:language>
  <cp:lastModifiedBy>Microsoft Office User</cp:lastModifiedBy>
  <dcterms:modified xsi:type="dcterms:W3CDTF">2018-08-01T13:24:28Z</dcterms:modified>
  <cp:revision>2</cp:revision>
  <dc:subject/>
  <dc:title>PowerPoint Presentation</dc:title>
</cp:coreProperties>
</file>